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B40-36E4-4823-8180-2AC4030B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A0B-511F-48E6-AF8F-D1B01BB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784-268F-4421-AC58-FA0DF37D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F69-F01E-4F86-A90C-A8FA5330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F31-2369-49A6-9245-7FA5E94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0A7-DF83-4D72-A1DB-34F5A3D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702-8269-4E57-8CCD-F48CB582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07B-0D8B-4899-BAC2-C34AA325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836-C8BD-4AED-888C-5EE94585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DBF-7D94-49C9-83CD-4E8EE6C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2CE-C5EB-4A1A-B69A-F82CA70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6A8-2656-4A85-889D-7547B5D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9FAC-A2A8-4BFE-8F36-5D5398ED1F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920880" y="3481560"/>
            <a:ext cx="7851600" cy="1292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2120" y="2451240"/>
            <a:ext cx="4108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516720" y="2712960"/>
            <a:ext cx="199404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884160" y="4705200"/>
            <a:ext cx="7912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768240" y="2371680"/>
            <a:ext cx="82260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3"/>
          <a:stretch/>
        </p:blipFill>
        <p:spPr>
          <a:xfrm>
            <a:off x="871560" y="1646280"/>
            <a:ext cx="7553160" cy="5475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38160" y="1079640"/>
            <a:ext cx="681516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847800" y="2889360"/>
            <a:ext cx="1834920" cy="4633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841320" y="3449520"/>
            <a:ext cx="3846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890640" y="41511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71560" y="46641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858960" y="5303880"/>
            <a:ext cx="18349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706840" y="5254560"/>
            <a:ext cx="3840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9:31Z</dcterms:modified>
  <cp:revision>11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